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C71-F6B2-4F3E-81E0-17B296CF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57A-5AF3-46E4-AE25-E17BA88C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D0B-5822-4398-A6F1-EA985563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D53-2127-4B1C-9AFD-3B9DD85F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300-13AB-4CAF-AA26-3D7549E9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8E4-762C-452E-B6FC-396BCCA8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15E-D3D2-4A6C-BFE3-9C877F38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4EF-D46C-4855-A0CA-17802F6D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5AF-C37B-4EEE-BB83-854BC901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B06-BB72-4A7F-B689-B97F600B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596-DA38-4086-8577-DF844367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4AE-D2CF-458B-B063-6B65CB74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14A3-BBB1-4957-BADE-32F23603E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03280" y="1484280"/>
            <a:ext cx="3816360" cy="49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9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preguntas importantes para llegar a este nivel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 AHORA: ¿QUÉ DEBEMOS HACER? ¿QUÉ HARE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CÓMO DEBEMOS AFRONTAR ESTA SITU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087720" cy="4321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03280" y="1125360"/>
            <a:ext cx="7415280" cy="359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aplicación personal es la clave para llegar al compromiso de vida. El conocimiento adquirido y el carácter cristiano plasmado deben manifestarse en una vida transformada por la gracia de Dios. Hay que profundizar los niveles de conocimiento hasta llegar al transformativo, experiencial y vital. No solo informar la mente, sino también formar el corazón, el carácter, y transformar la vida para la glori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84360" y="4572000"/>
            <a:ext cx="4953240" cy="228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58920" y="5011560"/>
            <a:ext cx="7570800" cy="122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HAGA QUE SUS ALUMNOS PRACTIQUEN LO APRENDI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2062080"/>
            <a:ext cx="4535280" cy="388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36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Muchas personas conocen muy bien las escrituras, pero se perderán por no haber decidido aplicar sus enseñanzas en su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36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s vital que lo que estudiamos hoy, aunque haya ocurrido centenas de años antes, pueda valer para el día de h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765000"/>
            <a:ext cx="7272360" cy="567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APLIQUE LA LECCIÓN AL DIA DE H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76720" y="2997360"/>
            <a:ext cx="4067280" cy="2377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2349360"/>
            <a:ext cx="6191280" cy="295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LOS TRES NIVELES DEL CONOCIMIENTO Y SUS 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ffffff"/>
                </a:solidFill>
                <a:latin typeface="Arial"/>
              </a:rPr>
              <a:t>(Elvio So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32000" y="1628640"/>
            <a:ext cx="7561080" cy="50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57400" indent="-2057400" algn="r">
              <a:spcBef>
                <a:spcPts val="700"/>
              </a:spcBef>
              <a:tabLst>
                <a:tab algn="l" pos="0"/>
                <a:tab algn="l" pos="170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rimer Nivel: </a:t>
            </a: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INFORM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-20574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70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057400" algn="r">
              <a:spcBef>
                <a:spcPts val="601"/>
              </a:spcBef>
              <a:tabLst>
                <a:tab algn="l" pos="0"/>
                <a:tab algn="l" pos="170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057400" algn="r">
              <a:spcBef>
                <a:spcPts val="601"/>
              </a:spcBef>
              <a:tabLst>
                <a:tab algn="l" pos="0"/>
                <a:tab algn="l" pos="170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s el prim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057400" algn="r">
              <a:spcBef>
                <a:spcPts val="601"/>
              </a:spcBef>
              <a:tabLst>
                <a:tab algn="l" pos="0"/>
                <a:tab algn="l" pos="170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l conocimien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057400" algn="r">
              <a:spcBef>
                <a:spcPts val="601"/>
              </a:spcBef>
              <a:tabLst>
                <a:tab algn="l" pos="0"/>
                <a:tab algn="l" pos="170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implemente es informativ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057400" algn="r">
              <a:spcBef>
                <a:spcPts val="601"/>
              </a:spcBef>
              <a:tabLst>
                <a:tab algn="l" pos="0"/>
                <a:tab algn="l" pos="170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nciclopédico, cognosc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057400" algn="r">
              <a:spcBef>
                <a:spcPts val="601"/>
              </a:spcBef>
              <a:tabLst>
                <a:tab algn="l" pos="0"/>
                <a:tab algn="l" pos="170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 este nivel corresponden las pregun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057400" algn="r">
              <a:spcBef>
                <a:spcPts val="601"/>
              </a:spcBef>
              <a:tabLst>
                <a:tab algn="l" pos="0"/>
                <a:tab algn="l" pos="170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057400" algn="r">
              <a:spcBef>
                <a:spcPts val="601"/>
              </a:spcBef>
              <a:tabLst>
                <a:tab algn="l" pos="0"/>
                <a:tab algn="l" pos="170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057400" algn="r">
              <a:spcBef>
                <a:spcPts val="601"/>
              </a:spcBef>
              <a:tabLst>
                <a:tab algn="l" pos="0"/>
                <a:tab algn="l" pos="170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¿QUÉ? ¿QUIÉN? ¿CUÁL? ¿DÓNDE? ¿CUÁ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3600360" cy="2762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33440" y="1413000"/>
            <a:ext cx="3959280" cy="48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  <a:ea typeface="Arial"/>
              </a:rPr>
              <a:t>●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  <a:ea typeface="Arial"/>
              </a:rPr>
              <a:t>Es simplemente la acumulación de datos, personajes, lugares, fechas, conceptos o nociones.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  <a:ea typeface="Arial"/>
              </a:rPr>
              <a:t>●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  <a:ea typeface="Arial"/>
              </a:rPr>
              <a:t>En este nivel predominan los conocimiento acumulados en la mem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56000" y="3500280"/>
            <a:ext cx="4572000" cy="3105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2360" y="4076640"/>
            <a:ext cx="3998880" cy="2603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1640" y="1125360"/>
            <a:ext cx="8172360" cy="446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Segundo Nivel: </a:t>
            </a: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FORM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e conocimiento es más profundo que el ant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obre la base de una correcta información, por medio de este nivel, es posible explorar las posibilidades de la formación cognoscitiva y psico-afecti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s preguntas que corresponden a este nivel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¿CÓM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R QUÉ? – ¿PARA QUÉ?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43280" y="907920"/>
            <a:ext cx="4175280" cy="56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9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l tratar de dar respuesta a estos interrogantes, notamos que ya no podemos dar respuestas sólo de conocimientos adquiridos, demandan reflexión, un nivel más profundo del conocimiento y la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este nivel se forman no sólo los conceptos importantes de la vida sino también los ideales, las actitudes y las valoraciones.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3009960" cy="3143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5240" y="907920"/>
            <a:ext cx="4317840" cy="55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Tercer Nivel: </a:t>
            </a: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TRANSFORMATI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 pesar de que el nivel formativo es más profundo que el informativo, no es el más profundo y vi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Jesucristo no pretendió formar meros repetidores de los conocimientos adquiridos, sino gente transformada para la honra y la gloria del Dios Vivien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4286160" cy="3286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3:06:20Z</dcterms:created>
  <dc:creator>Ivan</dc:creator>
  <dc:description/>
  <dc:language>en-US</dc:language>
  <cp:lastModifiedBy>Ivan</cp:lastModifiedBy>
  <dcterms:modified xsi:type="dcterms:W3CDTF">2007-03-21T17:17:07Z</dcterms:modified>
  <cp:revision>101</cp:revision>
  <dc:subject/>
  <dc:title>Slide 1</dc:title>
</cp:coreProperties>
</file>